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3CE-AB8A-4395-A130-3FDC9B63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FC4-7057-4E05-BA6E-B912F8AB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E02-5DBB-4461-8556-679E77C1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2C1-20AD-4346-A9BB-91A5EF4C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D3F-D2F2-4B6D-9416-DDB1D120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E3E-6924-4D0D-934C-85A8B601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4C5-668D-49E8-8BA7-07905BB4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E89-1439-4565-B57C-54EF1459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81E-2AAE-4081-B4B5-C3C0463D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CF0-1DCD-4683-B6A3-BF932C7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148-27F1-459F-BB47-10CFDFF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E42-BC4C-4BB0-9443-1DF7BCB8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51B0-880D-4376-B61B-54E1E652D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2464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  +   b )( c   +  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476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Double distributivité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32464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  +   b )( c   +  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x c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3789360"/>
            <a:ext cx="2303640" cy="361800"/>
          </a:xfrm>
          <a:custGeom>
            <a:avLst/>
            <a:gdLst>
              <a:gd name="textAreaLeft" fmla="*/ 478440 w 2303640"/>
              <a:gd name="textAreaRight" fmla="*/ 1594800 w 2303640"/>
              <a:gd name="textAreaTop" fmla="*/ 48240 h 361800"/>
              <a:gd name="textAreaBottom" fmla="*/ 3135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74" hR="21600" stAng="10800000" swAng="-5400000"/>
                <a:lnTo>
                  <a:pt x="10466" y="21600"/>
                </a:lnTo>
                <a:arcTo wR="8974" hR="21600" stAng="5400000" swAng="-2976160"/>
                <a:lnTo>
                  <a:pt x="21087" y="7200"/>
                </a:lnTo>
                <a:lnTo>
                  <a:pt x="18694" y="0"/>
                </a:lnTo>
                <a:lnTo>
                  <a:pt x="15275" y="7200"/>
                </a:lnTo>
                <a:lnTo>
                  <a:pt x="17435" y="7200"/>
                </a:lnTo>
                <a:arcTo wR="8974" hR="21600" stAng="2423840" swAng="2857066"/>
                <a:lnTo>
                  <a:pt x="9720" y="21525"/>
                </a:lnTo>
                <a:arcTo wR="8974" hR="21600" stAng="5519094" swAng="5280906"/>
                <a:close/>
              </a:path>
              <a:path fill="darkenLess" w="21600" h="21600">
                <a:moveTo>
                  <a:pt x="0" y="0"/>
                </a:moveTo>
                <a:arcTo wR="8974" hR="21600" stAng="10800000" swAng="-5400000"/>
                <a:lnTo>
                  <a:pt x="10466" y="21600"/>
                </a:lnTo>
                <a:arcTo wR="8974" hR="21600" stAng="5400000" swAng="119094"/>
                <a:lnTo>
                  <a:pt x="9720" y="21525"/>
                </a:lnTo>
                <a:arcTo wR="8974" hR="21600" stAng="5519094" swAng="528090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476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Double distributivité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464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  +   b )( c   +  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x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 x 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3789360"/>
            <a:ext cx="3672000" cy="576360"/>
          </a:xfrm>
          <a:custGeom>
            <a:avLst/>
            <a:gdLst>
              <a:gd name="textAreaLeft" fmla="*/ 763920 w 3672000"/>
              <a:gd name="textAreaRight" fmla="*/ 2471400 w 367200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89" hR="21600" stAng="10800000" swAng="-5400000"/>
                <a:lnTo>
                  <a:pt x="10044" y="21600"/>
                </a:lnTo>
                <a:arcTo wR="8989" hR="21600" stAng="5400000" swAng="-3522656"/>
                <a:lnTo>
                  <a:pt x="21326" y="5296"/>
                </a:lnTo>
                <a:lnTo>
                  <a:pt x="18505" y="0"/>
                </a:lnTo>
                <a:lnTo>
                  <a:pt x="15135" y="5296"/>
                </a:lnTo>
                <a:lnTo>
                  <a:pt x="17703" y="5296"/>
                </a:lnTo>
                <a:arcTo wR="8989" hR="21600" stAng="1877344" swAng="3438574"/>
                <a:lnTo>
                  <a:pt x="9516" y="21563"/>
                </a:lnTo>
                <a:arcTo wR="8989" hR="21600" stAng="5484082" swAng="5315918"/>
                <a:close/>
              </a:path>
              <a:path fill="darkenLess" w="21600" h="21600">
                <a:moveTo>
                  <a:pt x="0" y="0"/>
                </a:moveTo>
                <a:arcTo wR="8989" hR="21600" stAng="10800000" swAng="-5400000"/>
                <a:lnTo>
                  <a:pt x="10044" y="21600"/>
                </a:lnTo>
                <a:arcTo wR="8989" hR="21600" stAng="5400000" swAng="84082"/>
                <a:lnTo>
                  <a:pt x="9516" y="21563"/>
                </a:lnTo>
                <a:arcTo wR="8989" hR="21600" stAng="5484082" swAng="5315918"/>
                <a:close/>
              </a:path>
            </a:pathLst>
          </a:custGeom>
          <a:solidFill>
            <a:srgbClr val="0000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476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Double distributivité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32464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  +   b )( c   +  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x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 x 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 x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2852640"/>
            <a:ext cx="1079280" cy="50508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476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Double distributivité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32464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  +   b )( c   +  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x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 x 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 x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 x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2205000"/>
            <a:ext cx="2447640" cy="1152720"/>
          </a:xfrm>
          <a:custGeom>
            <a:avLst/>
            <a:gdLst>
              <a:gd name="textAreaLeft" fmla="*/ 501120 w 2447640"/>
              <a:gd name="textAreaRight" fmla="*/ 1701720 w 2447640"/>
              <a:gd name="textAreaTop" fmla="*/ 154440 h 1152720"/>
              <a:gd name="textAreaBottom" fmla="*/ 9982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9" hR="21600" stAng="10800000" swAng="5400000"/>
                <a:lnTo>
                  <a:pt x="10592" y="0"/>
                </a:lnTo>
                <a:arcTo wR="8849" hR="21600" stAng="-5400000" swAng="2952238"/>
                <a:lnTo>
                  <a:pt x="21094" y="14400"/>
                </a:lnTo>
                <a:lnTo>
                  <a:pt x="18569" y="21600"/>
                </a:lnTo>
                <a:lnTo>
                  <a:pt x="15031" y="14400"/>
                </a:lnTo>
                <a:lnTo>
                  <a:pt x="17191" y="14400"/>
                </a:lnTo>
                <a:arcTo wR="8849" hR="21600" stAng="-2447762" swAng="-2812933"/>
                <a:lnTo>
                  <a:pt x="9720" y="105"/>
                </a:lnTo>
                <a:arcTo wR="8849" hR="21600" stAng="-5539305" swAng="-5260695"/>
                <a:close/>
              </a:path>
              <a:path fill="darkenLess" w="21600" h="21600">
                <a:moveTo>
                  <a:pt x="0" y="21600"/>
                </a:moveTo>
                <a:arcTo wR="8849" hR="21600" stAng="10800000" swAng="5400000"/>
                <a:lnTo>
                  <a:pt x="8849" y="0"/>
                </a:lnTo>
                <a:arcTo wR="8849" hR="21600" stAng="-5400000" swAng="139305"/>
                <a:lnTo>
                  <a:pt x="9720" y="105"/>
                </a:lnTo>
                <a:arcTo wR="8849" hR="21600" stAng="-5539305" swAng="-5260695"/>
                <a:close/>
              </a:path>
            </a:pathLst>
          </a:custGeom>
          <a:solidFill>
            <a:srgbClr val="9933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76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Double distributivité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32464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  +   b )( c   +  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x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 x 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 x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 x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3789360"/>
            <a:ext cx="2303640" cy="361800"/>
          </a:xfrm>
          <a:custGeom>
            <a:avLst/>
            <a:gdLst>
              <a:gd name="textAreaLeft" fmla="*/ 478440 w 2303640"/>
              <a:gd name="textAreaRight" fmla="*/ 1594800 w 2303640"/>
              <a:gd name="textAreaTop" fmla="*/ 48240 h 361800"/>
              <a:gd name="textAreaBottom" fmla="*/ 3135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74" hR="21600" stAng="10800000" swAng="-5400000"/>
                <a:lnTo>
                  <a:pt x="10466" y="21600"/>
                </a:lnTo>
                <a:arcTo wR="8974" hR="21600" stAng="5400000" swAng="-2976160"/>
                <a:lnTo>
                  <a:pt x="21087" y="7200"/>
                </a:lnTo>
                <a:lnTo>
                  <a:pt x="18694" y="0"/>
                </a:lnTo>
                <a:lnTo>
                  <a:pt x="15275" y="7200"/>
                </a:lnTo>
                <a:lnTo>
                  <a:pt x="17435" y="7200"/>
                </a:lnTo>
                <a:arcTo wR="8974" hR="21600" stAng="2423840" swAng="2857066"/>
                <a:lnTo>
                  <a:pt x="9720" y="21525"/>
                </a:lnTo>
                <a:arcTo wR="8974" hR="21600" stAng="5519094" swAng="5280906"/>
                <a:close/>
              </a:path>
              <a:path fill="darkenLess" w="21600" h="21600">
                <a:moveTo>
                  <a:pt x="0" y="0"/>
                </a:moveTo>
                <a:arcTo wR="8974" hR="21600" stAng="10800000" swAng="-5400000"/>
                <a:lnTo>
                  <a:pt x="10466" y="21600"/>
                </a:lnTo>
                <a:arcTo wR="8974" hR="21600" stAng="5400000" swAng="119094"/>
                <a:lnTo>
                  <a:pt x="9720" y="21525"/>
                </a:lnTo>
                <a:arcTo wR="8974" hR="21600" stAng="5519094" swAng="528090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3789360"/>
            <a:ext cx="3672000" cy="576360"/>
          </a:xfrm>
          <a:custGeom>
            <a:avLst/>
            <a:gdLst>
              <a:gd name="textAreaLeft" fmla="*/ 763920 w 3672000"/>
              <a:gd name="textAreaRight" fmla="*/ 2471400 w 367200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89" hR="21600" stAng="10800000" swAng="-5400000"/>
                <a:lnTo>
                  <a:pt x="10044" y="21600"/>
                </a:lnTo>
                <a:arcTo wR="8989" hR="21600" stAng="5400000" swAng="-3522656"/>
                <a:lnTo>
                  <a:pt x="21326" y="5296"/>
                </a:lnTo>
                <a:lnTo>
                  <a:pt x="18505" y="0"/>
                </a:lnTo>
                <a:lnTo>
                  <a:pt x="15135" y="5296"/>
                </a:lnTo>
                <a:lnTo>
                  <a:pt x="17703" y="5296"/>
                </a:lnTo>
                <a:arcTo wR="8989" hR="21600" stAng="1877344" swAng="3438574"/>
                <a:lnTo>
                  <a:pt x="9516" y="21563"/>
                </a:lnTo>
                <a:arcTo wR="8989" hR="21600" stAng="5484082" swAng="5315918"/>
                <a:close/>
              </a:path>
              <a:path fill="darkenLess" w="21600" h="21600">
                <a:moveTo>
                  <a:pt x="0" y="0"/>
                </a:moveTo>
                <a:arcTo wR="8989" hR="21600" stAng="10800000" swAng="-5400000"/>
                <a:lnTo>
                  <a:pt x="10044" y="21600"/>
                </a:lnTo>
                <a:arcTo wR="8989" hR="21600" stAng="5400000" swAng="84082"/>
                <a:lnTo>
                  <a:pt x="9516" y="21563"/>
                </a:lnTo>
                <a:arcTo wR="8989" hR="21600" stAng="5484082" swAng="5315918"/>
                <a:close/>
              </a:path>
            </a:pathLst>
          </a:custGeom>
          <a:solidFill>
            <a:srgbClr val="0000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852640"/>
            <a:ext cx="1079280" cy="50508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2205000"/>
            <a:ext cx="2447640" cy="1152720"/>
          </a:xfrm>
          <a:custGeom>
            <a:avLst/>
            <a:gdLst>
              <a:gd name="textAreaLeft" fmla="*/ 501120 w 2447640"/>
              <a:gd name="textAreaRight" fmla="*/ 1701720 w 2447640"/>
              <a:gd name="textAreaTop" fmla="*/ 154440 h 1152720"/>
              <a:gd name="textAreaBottom" fmla="*/ 9982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9" hR="21600" stAng="10800000" swAng="5400000"/>
                <a:lnTo>
                  <a:pt x="10592" y="0"/>
                </a:lnTo>
                <a:arcTo wR="8849" hR="21600" stAng="-5400000" swAng="2952238"/>
                <a:lnTo>
                  <a:pt x="21094" y="14400"/>
                </a:lnTo>
                <a:lnTo>
                  <a:pt x="18569" y="21600"/>
                </a:lnTo>
                <a:lnTo>
                  <a:pt x="15031" y="14400"/>
                </a:lnTo>
                <a:lnTo>
                  <a:pt x="17191" y="14400"/>
                </a:lnTo>
                <a:arcTo wR="8849" hR="21600" stAng="-2447762" swAng="-2812933"/>
                <a:lnTo>
                  <a:pt x="9720" y="105"/>
                </a:lnTo>
                <a:arcTo wR="8849" hR="21600" stAng="-5539305" swAng="-5260695"/>
                <a:close/>
              </a:path>
              <a:path fill="darkenLess" w="21600" h="21600">
                <a:moveTo>
                  <a:pt x="0" y="21600"/>
                </a:moveTo>
                <a:arcTo wR="8849" hR="21600" stAng="10800000" swAng="5400000"/>
                <a:lnTo>
                  <a:pt x="8849" y="0"/>
                </a:lnTo>
                <a:arcTo wR="8849" hR="21600" stAng="-5400000" swAng="139305"/>
                <a:lnTo>
                  <a:pt x="9720" y="105"/>
                </a:lnTo>
                <a:arcTo wR="8849" hR="21600" stAng="-5539305" swAng="-5260695"/>
                <a:close/>
              </a:path>
            </a:pathLst>
          </a:custGeom>
          <a:solidFill>
            <a:srgbClr val="9933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76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Double distributivité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32464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  +   2  )( b   +   5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5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2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789360"/>
            <a:ext cx="2303640" cy="361800"/>
          </a:xfrm>
          <a:custGeom>
            <a:avLst/>
            <a:gdLst>
              <a:gd name="textAreaLeft" fmla="*/ 478440 w 2303640"/>
              <a:gd name="textAreaRight" fmla="*/ 1594800 w 2303640"/>
              <a:gd name="textAreaTop" fmla="*/ 48240 h 361800"/>
              <a:gd name="textAreaBottom" fmla="*/ 3135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74" hR="21600" stAng="10800000" swAng="-5400000"/>
                <a:lnTo>
                  <a:pt x="10466" y="21600"/>
                </a:lnTo>
                <a:arcTo wR="8974" hR="21600" stAng="5400000" swAng="-2976160"/>
                <a:lnTo>
                  <a:pt x="21087" y="7200"/>
                </a:lnTo>
                <a:lnTo>
                  <a:pt x="18694" y="0"/>
                </a:lnTo>
                <a:lnTo>
                  <a:pt x="15275" y="7200"/>
                </a:lnTo>
                <a:lnTo>
                  <a:pt x="17435" y="7200"/>
                </a:lnTo>
                <a:arcTo wR="8974" hR="21600" stAng="2423840" swAng="2857066"/>
                <a:lnTo>
                  <a:pt x="9720" y="21525"/>
                </a:lnTo>
                <a:arcTo wR="8974" hR="21600" stAng="5519094" swAng="5280906"/>
                <a:close/>
              </a:path>
              <a:path fill="darkenLess" w="21600" h="21600">
                <a:moveTo>
                  <a:pt x="0" y="0"/>
                </a:moveTo>
                <a:arcTo wR="8974" hR="21600" stAng="10800000" swAng="-5400000"/>
                <a:lnTo>
                  <a:pt x="10466" y="21600"/>
                </a:lnTo>
                <a:arcTo wR="8974" hR="21600" stAng="5400000" swAng="119094"/>
                <a:lnTo>
                  <a:pt x="9720" y="21525"/>
                </a:lnTo>
                <a:arcTo wR="8974" hR="21600" stAng="5519094" swAng="528090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789360"/>
            <a:ext cx="3672000" cy="576360"/>
          </a:xfrm>
          <a:custGeom>
            <a:avLst/>
            <a:gdLst>
              <a:gd name="textAreaLeft" fmla="*/ 763920 w 3672000"/>
              <a:gd name="textAreaRight" fmla="*/ 2471400 w 367200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89" hR="21600" stAng="10800000" swAng="-5400000"/>
                <a:lnTo>
                  <a:pt x="10044" y="21600"/>
                </a:lnTo>
                <a:arcTo wR="8989" hR="21600" stAng="5400000" swAng="-3522656"/>
                <a:lnTo>
                  <a:pt x="21326" y="5296"/>
                </a:lnTo>
                <a:lnTo>
                  <a:pt x="18505" y="0"/>
                </a:lnTo>
                <a:lnTo>
                  <a:pt x="15135" y="5296"/>
                </a:lnTo>
                <a:lnTo>
                  <a:pt x="17703" y="5296"/>
                </a:lnTo>
                <a:arcTo wR="8989" hR="21600" stAng="1877344" swAng="3438574"/>
                <a:lnTo>
                  <a:pt x="9516" y="21563"/>
                </a:lnTo>
                <a:arcTo wR="8989" hR="21600" stAng="5484082" swAng="5315918"/>
                <a:close/>
              </a:path>
              <a:path fill="darkenLess" w="21600" h="21600">
                <a:moveTo>
                  <a:pt x="0" y="0"/>
                </a:moveTo>
                <a:arcTo wR="8989" hR="21600" stAng="10800000" swAng="-5400000"/>
                <a:lnTo>
                  <a:pt x="10044" y="21600"/>
                </a:lnTo>
                <a:arcTo wR="8989" hR="21600" stAng="5400000" swAng="84082"/>
                <a:lnTo>
                  <a:pt x="9516" y="21563"/>
                </a:lnTo>
                <a:arcTo wR="8989" hR="21600" stAng="5484082" swAng="5315918"/>
                <a:close/>
              </a:path>
            </a:pathLst>
          </a:custGeom>
          <a:solidFill>
            <a:srgbClr val="00008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2852640"/>
            <a:ext cx="1150920" cy="505080"/>
          </a:xfrm>
          <a:custGeom>
            <a:avLst/>
            <a:gdLst>
              <a:gd name="textAreaLeft" fmla="*/ 201240 w 1150920"/>
              <a:gd name="textAreaRight" fmla="*/ 834480 w 115092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2205000"/>
            <a:ext cx="2447640" cy="1152720"/>
          </a:xfrm>
          <a:custGeom>
            <a:avLst/>
            <a:gdLst>
              <a:gd name="textAreaLeft" fmla="*/ 501120 w 2447640"/>
              <a:gd name="textAreaRight" fmla="*/ 1701720 w 2447640"/>
              <a:gd name="textAreaTop" fmla="*/ 154440 h 1152720"/>
              <a:gd name="textAreaBottom" fmla="*/ 9982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9" hR="21600" stAng="10800000" swAng="5400000"/>
                <a:lnTo>
                  <a:pt x="10592" y="0"/>
                </a:lnTo>
                <a:arcTo wR="8849" hR="21600" stAng="-5400000" swAng="2952238"/>
                <a:lnTo>
                  <a:pt x="21094" y="14400"/>
                </a:lnTo>
                <a:lnTo>
                  <a:pt x="18569" y="21600"/>
                </a:lnTo>
                <a:lnTo>
                  <a:pt x="15031" y="14400"/>
                </a:lnTo>
                <a:lnTo>
                  <a:pt x="17191" y="14400"/>
                </a:lnTo>
                <a:arcTo wR="8849" hR="21600" stAng="-2447762" swAng="-2812933"/>
                <a:lnTo>
                  <a:pt x="9720" y="105"/>
                </a:lnTo>
                <a:arcTo wR="8849" hR="21600" stAng="-5539305" swAng="-5260695"/>
                <a:close/>
              </a:path>
              <a:path fill="darkenLess" w="21600" h="21600">
                <a:moveTo>
                  <a:pt x="0" y="21600"/>
                </a:moveTo>
                <a:arcTo wR="8849" hR="21600" stAng="10800000" swAng="5400000"/>
                <a:lnTo>
                  <a:pt x="8849" y="0"/>
                </a:lnTo>
                <a:arcTo wR="8849" hR="21600" stAng="-5400000" swAng="139305"/>
                <a:lnTo>
                  <a:pt x="9720" y="105"/>
                </a:lnTo>
                <a:arcTo wR="8849" hR="21600" stAng="-5539305" swAng="-5260695"/>
                <a:close/>
              </a:path>
            </a:pathLst>
          </a:custGeom>
          <a:solidFill>
            <a:srgbClr val="9933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76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5:31:19Z</dcterms:created>
  <dc:creator>admin</dc:creator>
  <dc:description/>
  <dc:language>en-US</dc:language>
  <cp:lastModifiedBy>admin</cp:lastModifiedBy>
  <dcterms:modified xsi:type="dcterms:W3CDTF">2006-10-28T15:39:38Z</dcterms:modified>
  <cp:revision>9</cp:revision>
  <dc:subject/>
  <dc:title>( a + b )( c + d )  </dc:title>
</cp:coreProperties>
</file>